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49D-1A5B-44BC-9C83-BAC3829C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E6C-8BA5-46F3-954C-6EEE96C6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B81-D564-4AD1-AA07-7E65E1A1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6F5-64D7-4557-808C-BA7C1FA9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B138-19D5-4610-8E06-821CFD6B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40B2-2B09-4C34-B578-FD2DFBDA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BA36-D636-45B0-9CCE-DB620F93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5834-1775-4463-9DEC-670402BE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1BBA-4C5A-43F1-BD93-87F0981C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7A55-E408-4E6C-94D4-7BB87000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DF92-83B6-44C1-8317-96E03C44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985-59E1-412A-BC15-8BB0D5CB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CD15-C90C-4800-871D-ED89ADC6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F1C4-6403-4F24-936B-B47928C0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744E-0460-483B-BE38-D50E847B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DE7E-A61A-4F48-832F-A97C4535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E87E-8E50-4ACF-AF40-3D742340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9BF-F1BF-44B8-8081-4882D48B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555-A8EC-4F0D-9361-115CF423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691-0DCD-433C-8A02-75B85F5D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732-35FA-4461-97B7-FC6FAFD0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E44-4288-4542-B3E7-31EA7E2B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7E1-E586-40A9-AC6E-4925A67A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3A4-CC96-461B-9B67-4BA62850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AB09-E489-4A93-945F-14775A0D6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3CDC-ADBE-447E-BEFD-DBB580E20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peten</a:t>
            </a:r>
            <a:r>
              <a:rPr b="0" lang="ro-RO" sz="4400" spc="-1" strike="noStrike">
                <a:solidFill>
                  <a:srgbClr val="b7e7ff"/>
                </a:solidFill>
                <a:latin typeface="Arial"/>
              </a:rPr>
              <a:t>țe digita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alaureat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b7e7ff"/>
                </a:solidFill>
                <a:latin typeface="Arial"/>
              </a:rPr>
              <a:t>Domenii de competență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tilizarea computerului și organizarea fișiere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ditoare de tex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Informație și comuni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oncepte de bază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ditoare de calcul tabe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aze de 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ezentă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cces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19573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0:38:49Z</dcterms:created>
  <dc:creator>AS</dc:creator>
  <dc:description/>
  <dc:language>en-US</dc:language>
  <cp:lastModifiedBy>AS</cp:lastModifiedBy>
  <dcterms:modified xsi:type="dcterms:W3CDTF">2010-01-04T20:45:03Z</dcterms:modified>
  <cp:revision>2</cp:revision>
  <dc:subject/>
  <dc:title>Diapozitivul 1</dc:title>
</cp:coreProperties>
</file>